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0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5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B91-C606-48EE-B8FC-0E861A21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35D-61FB-4B74-A8A7-8D65F1B7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C570A-147A-4259-A644-C4E362C2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6E2B56-F039-4A0B-B9CA-FE67986A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5E43F3-FADF-4635-AE53-658F13CB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6118E3-0E01-4E4F-9485-79A2812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4AF0AA-55AD-4486-9C1C-108340D8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8EFE40-C3E4-490D-A513-A090126B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42509-9687-4104-A80A-F361F2A6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941EE2-FAB0-4AA6-8307-524F8503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7B8CE-7704-4EB5-83B6-3CA0AF81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18C8B-A87A-4CC3-BD9F-99DA2AD8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C77-A1C7-4C50-B8B7-A9048DBD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DEC4B-D736-48BA-BA0A-517609B5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31F2A-0516-416D-8614-93F10AF8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25DB2-8050-4458-9ABF-4CD61A7D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A2EB4-CB33-4C55-9624-CE37119A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951A8-7D5C-4FA4-9326-CE34040E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9790A-7392-46F9-B6CE-36A3A37B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C804C-234E-4E00-9A74-85177935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42A33-3854-4C0A-BDCD-58A839F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A1ABC-D8FE-46F4-8827-BB69F246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779C6-05F9-4EA5-9EA0-2A01A35D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D7DA-7B11-4E52-BEA2-3D84AC1B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1C7D9-3B31-4F0F-AA7D-C7EC3A38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6D966-376A-4C81-923A-65B4E7EB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78F50-55A1-48DC-A756-B691D9E0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B52FB-55F8-47C2-A06E-9C0F440F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A3B1F-15A7-4CD5-B024-D7C9DAD9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357FD-A69D-4E3E-80FA-116DDCC8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454E5-051D-4AAF-805B-67F86015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AAE3-885B-43DB-B786-7C86322A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C38AF-7F91-4377-8962-E95BC2E4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1C7F3-38E2-432E-A803-72DB37A3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E58E3-8E1A-401D-82F4-AFD66DCC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0BD22-4433-470D-BE05-9F2AF364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7ABB4-5DF2-4AED-827C-579F3BB5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1FC72-0310-4651-841A-89391602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49DE6-77F4-484D-A8B6-54E64DF3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26705-1EE1-4832-81EE-5337DCDB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75B1B-CF1E-4AA5-B878-4220E310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271FF6-C973-4CEC-8CE3-3B0869A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44EA0-0068-4E2F-8CA8-E2699C2E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FDF64-395B-45E6-A603-C72D3DBA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EB7EC-2E33-4F9F-A33D-223D05C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9EA31-B894-46AD-BFED-E7735067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B1C7E-1D31-4724-B2D6-899847D5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D30D5-B7F8-4DD4-861C-FF3244B1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B40CA-B719-475F-9BE6-E6AC4408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CA135-08A5-4257-86E1-98530BA6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D6D6F-E01A-444C-8F11-9D5F2274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CF225-AF98-4FCC-97DC-47B089A6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F7FD4-4E05-4EBE-B02F-9CA7DBDD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01AB-D002-46FB-B496-69CF7432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714DE-6232-4E35-AF2F-9FE3EB64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4C224-7378-4E3C-B0E6-540C707C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DC6-BE40-48EA-9D01-AD4A0141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42233-0C75-4F03-9E97-1DFF09B8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418F2-F6FD-4CAB-957A-CDE69C2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5584B-FAA3-469B-80BC-4193E0AD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81C42-FD68-46AC-92DB-EC3B893D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A0D7C-F413-41F8-90F1-895FD748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47AB-ADA3-485F-BF1D-ABCBA2BB9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F49C5-82C9-4F8C-A4E5-8ACC1D1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61D0-07B2-4DCE-AFC7-8032E57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36A3-1D86-4A88-B2DF-73895F94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8ABF-08AF-4623-8201-8BCA14DF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729D-69C4-478E-831B-5BF97F8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5DC9-0D21-4671-AB90-14F1D5D0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0F8B-C843-4B06-8DE7-C294BFB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83768-B781-48F3-804F-4758B17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2B6F-57BE-4590-96F2-EC788E3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44F9C-D450-4CBC-A6F5-F1629920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5AB5-C6B9-4671-8156-7C44CE60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9E9D-8191-48B3-98BE-D638F7F7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EE4C9-889A-4E93-8100-BE5F243C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ED26A-2ABB-4F4A-9822-5D57CAA5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C2F576-9F28-42AF-A3C3-F8E5976B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DB8-FA64-44DC-ACFF-ED2E345B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205C6-55C5-4203-9E79-377BC3BF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72A9E-2854-458B-83B4-32A6D206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E44E4-97AE-40A9-8076-2BC850F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6FE29-FBB8-4315-9CC8-907CE9BB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7D56C-5AE6-448A-A2BB-D80A81B0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471D7F-DB65-4753-8815-5ABC3304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8C982-CF45-49D7-8F28-C64275C5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841CC8-CF72-4CE1-AD89-72870F4E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BC17CB-A2EE-4F5C-8BC6-B86CD49C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CB2F-4651-40D8-9430-CA9F1E14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293-F7BA-4387-AAA5-BEA3D36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8D749-B6A0-4BC4-B88C-AE24BD6C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BFF0F-4063-4A3F-A066-6666EC62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8A56D-6B0B-4D57-B77B-96FCE055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FB531-8C9B-448B-9AC1-C62BE9D7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4278E-71E4-4F29-8521-24C1FF48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6DD61-965C-4341-A9CB-6538E97B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4E103-13BB-4EB5-90C5-ECB7E90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139EA-D630-4E23-8614-CCB586F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3FA2E-E697-471C-81AC-3371E965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3A1D3-BC04-4E1F-9A9B-539BFD98D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E78-BC80-4156-B2B7-A43FB03F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A3E82-E85C-4B2A-9FDB-3F12BCE1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D4180-9FD0-4F6B-8650-63BE01D7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77A4-A703-4201-A1C4-2D6481B3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0149-8214-4D91-9F16-E5E4252E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D9BF2-6901-4F5F-9878-82B28597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8083-4C36-49A8-9BE3-60705F09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312B1-266D-4F88-9A1C-13690C1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5D9D2-2CA4-4FBA-A3B9-AF6AF88C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E5303-D21A-4771-BA91-69C3A14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D4FC3-B850-4542-AD75-7FAD0F4E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64B-F048-4A6F-AAAE-DFA01DD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A03F-FDE0-4F60-B6B8-FD69EDD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AD2EE-C22E-44AF-9213-57BF93C1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112BD-E15A-4DB2-B4A9-435B1387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A11D1-DC1A-4F14-86EE-6C6C2666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FA9DF-8D12-4D27-B3AD-0D2EA9B5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C3F4B-ADAB-436A-8D17-FD517767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60DA1-7207-49B4-85E8-F692760B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172C1-9DDD-4A0B-9289-D4B93854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15D22-1F5F-4543-89C1-6958B88B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2356A-4CF5-46BB-B1B5-C9424F73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84F-71D2-48DB-B2EA-E5A014C8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0E88E-884C-4B75-ADFD-A86F5271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D378C-63D5-4A33-BD24-F9FF69E0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E12F4-7474-4B7A-9CEB-BFB6FB7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BA3DC-2B57-41FB-B12A-293DD32F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470F-2A02-4001-B496-A7FD509F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B13883-9A88-4E67-9B21-3D3A9DED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364C99-01DB-41AD-8E29-4E618A3F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A434B-89FC-4B50-9496-C6A07C7E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997CC6-3879-4AD5-96BB-410EF9A3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B3121-C9B2-4D74-992C-644B1595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A45-5712-4B86-927B-9D57679A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0D7C0-A5AF-4F9E-87FF-7CF744D9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CA83B6-0A3D-459D-B86A-8CF7C06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BD3652-3181-4672-AD6F-F175E2F3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14FA91-817F-4B61-A0A4-9428827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DA7BE-EBDB-4A5B-9D4F-77FABF8E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B65EF9-B9CD-4423-AEB6-F429EB67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7D423D-2F35-4031-AFBB-C5E2D052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7DCA38-B790-4DAD-BC8D-D6769F7B7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3CFDC8-E348-4C14-80F5-D4CCCE9A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BC56EA-6BED-4310-B3BE-8F16064B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8506-44D9-46A5-B59F-4D6A475754C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395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F502-1AD9-46DD-AC8A-80DBF302F54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3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2B81B-850E-48AD-B7C9-4977DC9C364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83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57F5-2B84-4F70-A621-DEDB247F4EC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3EA6-E87D-4E13-BAA5-CE761B61EF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DCE-8183-494F-9DCC-5CA0558DEB4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2D4F-2CF0-4325-9C4A-1028846D10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31AE-1791-474F-B030-6875D0A9B71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246-1F5D-40C8-9D18-47A40738CCC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D29F-81A7-40E3-9CF9-E26EEC91399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B4AA-39F3-45D6-A278-A41FD8332E3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769D-D85A-490C-8CE0-3E2624B800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hyperlink" Target="http://www.firstworldwar.com/posters/canada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file:///seven_tricks.html" TargetMode="External"/><Relationship Id="rId4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Rectangle 4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242560" cy="96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pp_can_06"/>
          <p:cNvPicPr/>
          <p:nvPr/>
        </p:nvPicPr>
        <p:blipFill>
          <a:blip r:embed="rId3"/>
          <a:stretch/>
        </p:blipFill>
        <p:spPr>
          <a:xfrm>
            <a:off x="2700360" y="1341360"/>
            <a:ext cx="33987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10" descr="pp_uk_06"/>
          <p:cNvPicPr/>
          <p:nvPr/>
        </p:nvPicPr>
        <p:blipFill>
          <a:blip r:embed="rId2"/>
          <a:stretch/>
        </p:blipFill>
        <p:spPr>
          <a:xfrm>
            <a:off x="2556000" y="189000"/>
            <a:ext cx="4464000" cy="6630840"/>
          </a:xfrm>
          <a:prstGeom prst="rect">
            <a:avLst/>
          </a:prstGeom>
          <a:ln w="0">
            <a:noFill/>
          </a:ln>
        </p:spPr>
      </p:pic>
      <p:sp>
        <p:nvSpPr>
          <p:cNvPr id="550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8" descr="pp_can_04"/>
          <p:cNvPicPr/>
          <p:nvPr/>
        </p:nvPicPr>
        <p:blipFill>
          <a:blip r:embed="rId2"/>
          <a:stretch/>
        </p:blipFill>
        <p:spPr>
          <a:xfrm>
            <a:off x="2556000" y="333360"/>
            <a:ext cx="403200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pp_uk_07"/>
          <p:cNvPicPr/>
          <p:nvPr/>
        </p:nvPicPr>
        <p:blipFill>
          <a:blip r:embed="rId2"/>
          <a:stretch/>
        </p:blipFill>
        <p:spPr>
          <a:xfrm>
            <a:off x="2340000" y="252360"/>
            <a:ext cx="4176720" cy="6505560"/>
          </a:xfrm>
          <a:prstGeom prst="rect">
            <a:avLst/>
          </a:prstGeom>
          <a:ln w="0">
            <a:noFill/>
          </a:ln>
        </p:spPr>
      </p:pic>
      <p:sp>
        <p:nvSpPr>
          <p:cNvPr id="554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Box 7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13" descr="http://www.google.ca/url?source=imgres&amp;ct=img&amp;q=http://s3.hubimg.com/u/1116470_f520.jpg&amp;sa=X&amp;ei=Qb1nTfTEIcq4tgeyxYXoAw&amp;ved=0CAQQ8wc&amp;usg=AFQjCNEG6Jrnz35ujutLMMvfQM8bzsjvtw"/>
          <p:cNvPicPr/>
          <p:nvPr/>
        </p:nvPicPr>
        <p:blipFill>
          <a:blip r:embed="rId2"/>
          <a:stretch/>
        </p:blipFill>
        <p:spPr>
          <a:xfrm>
            <a:off x="2700360" y="316080"/>
            <a:ext cx="4248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5" descr="pp_uk_08"/>
          <p:cNvPicPr/>
          <p:nvPr/>
        </p:nvPicPr>
        <p:blipFill>
          <a:blip r:embed="rId2"/>
          <a:stretch/>
        </p:blipFill>
        <p:spPr>
          <a:xfrm>
            <a:off x="2916360" y="333360"/>
            <a:ext cx="4103640" cy="62913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6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pp_uk_09"/>
          <p:cNvPicPr/>
          <p:nvPr/>
        </p:nvPicPr>
        <p:blipFill>
          <a:blip r:embed="rId2"/>
          <a:stretch/>
        </p:blipFill>
        <p:spPr>
          <a:xfrm>
            <a:off x="2916360" y="260280"/>
            <a:ext cx="4248000" cy="63309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http://www.google.ca/url?source=imgres&amp;ct=img&amp;q=http://www.underconsideration.com/speakup/archives/SU_war-2.jpg&amp;sa=X&amp;ei=EL5nTYnKAYWUtwfp8vjnAw&amp;ved=0CAQQ8wc4LQ&amp;usg=AFQjCNHdqX1i7_gVeU7KFKlsTkt7JcypsQ"/>
          <p:cNvPicPr/>
          <p:nvPr/>
        </p:nvPicPr>
        <p:blipFill>
          <a:blip r:embed="rId2"/>
          <a:stretch/>
        </p:blipFill>
        <p:spPr>
          <a:xfrm>
            <a:off x="1835280" y="1413000"/>
            <a:ext cx="6756120" cy="502596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http://www.google.ca/url?source=imgres&amp;ct=img&amp;q=http://www.warandgender.com/5_fig010.jpg&amp;sa=X&amp;ei=0c9nTYGGMcrAtgey7ZzoAw&amp;ved=0CAQQ8wc4Ww&amp;usg=AFQjCNFqzvs4DXBZdshOaoztOPLHd8mvEQ"/>
          <p:cNvPicPr/>
          <p:nvPr/>
        </p:nvPicPr>
        <p:blipFill>
          <a:blip r:embed="rId2"/>
          <a:stretch/>
        </p:blipFill>
        <p:spPr>
          <a:xfrm>
            <a:off x="2556000" y="333360"/>
            <a:ext cx="4181400" cy="6203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http://www.google.ca/url?source=imgres&amp;ct=img&amp;q=http://www.pinetreeweb.com/bp-ww1-poster.jpg&amp;sa=X&amp;ei=FNBnTaKFJIWXtwfPzqjoAw&amp;ved=0CAQQ8wc4Ww&amp;usg=AFQjCNE3K16jozMNvu4NStfP2ZqZN7lg5g"/>
          <p:cNvPicPr/>
          <p:nvPr/>
        </p:nvPicPr>
        <p:blipFill>
          <a:blip r:embed="rId2"/>
          <a:stretch/>
        </p:blipFill>
        <p:spPr>
          <a:xfrm>
            <a:off x="2771640" y="223920"/>
            <a:ext cx="4297320" cy="663408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http://www.google.ca/url?source=imgres&amp;ct=img&amp;q=http://www.infobarrel.com/media/image/1385.jpg&amp;sa=X&amp;ei=Is9nTbeKKIS5tgevr6DoAw&amp;ved=0CAQQ8wc&amp;usg=AFQjCNHOqOEV_AP6pJPQBLhdvUTbFCibTA"/>
          <p:cNvPicPr/>
          <p:nvPr/>
        </p:nvPicPr>
        <p:blipFill>
          <a:blip r:embed="rId2"/>
          <a:stretch/>
        </p:blipFill>
        <p:spPr>
          <a:xfrm>
            <a:off x="1908000" y="0"/>
            <a:ext cx="4535640" cy="67197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2"/>
          <p:cNvSpPr/>
          <p:nvPr/>
        </p:nvSpPr>
        <p:spPr>
          <a:xfrm>
            <a:off x="684360" y="6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Rockwell"/>
              </a:rPr>
              <a:t>Propaganda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is a specific type of message presentation aimed at serving an agenda. At its root, the denotation of propaganda is 'to propagate (actively spread) a philosophy or point of view'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most common use of the term (historically) is in political contexts; in particular to refer to certain efforts sponsored by governments or political groups. (Wikipedia)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0" name="Picture 9" descr="pp_can_09"/>
          <p:cNvPicPr/>
          <p:nvPr/>
        </p:nvPicPr>
        <p:blipFill>
          <a:blip r:embed="rId3"/>
          <a:stretch/>
        </p:blipFill>
        <p:spPr>
          <a:xfrm>
            <a:off x="5289480" y="1905120"/>
            <a:ext cx="2755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Title 1" descr=""/>
          <p:cNvPicPr/>
          <p:nvPr/>
        </p:nvPicPr>
        <p:blipFill>
          <a:blip r:embed="rId2"/>
          <a:stretch/>
        </p:blipFill>
        <p:spPr>
          <a:xfrm>
            <a:off x="457200" y="378000"/>
            <a:ext cx="8242200" cy="22492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250560" y="3068640"/>
            <a:ext cx="8497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World War I Posters- Canada </a:t>
            </a:r>
            <a:br>
              <a:rPr sz="3200"/>
            </a:br>
            <a:r>
              <a:rPr b="0" lang="en-US" sz="32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www.firstworldwar.com/posters/canada.htm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ch of the nations which participated in World War One from 1914-18 used propaganda posters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hey used posters to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justify their involvement to their own popul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s a means of recruiting me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A way to raise money and resources to sustain the military campaign.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spcBef>
                <a:spcPts val="400"/>
              </a:spcBef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o urge conserv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3" name="Picture 10" descr="pp_uk_33"/>
          <p:cNvPicPr/>
          <p:nvPr/>
        </p:nvPicPr>
        <p:blipFill>
          <a:blip r:embed="rId3"/>
          <a:stretch/>
        </p:blipFill>
        <p:spPr>
          <a:xfrm>
            <a:off x="5148360" y="1484280"/>
            <a:ext cx="3346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164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levision had not yet been inve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Not everyone owned or had access to a radio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ters were the most effective means of getting a message acros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36" name="Picture 16" descr="http://www.google.ca/url?source=imgres&amp;ct=img&amp;q=http://rlv.zcache.com/ww1_collectors_card_1914_canada_propaganda_postcard-p239228030672924246trdg_400.jpg&amp;sa=X&amp;ei=ub1nTb7ECIHHtgej1pnoAw&amp;ved=0CAQQ8wc&amp;usg=AFQjCNHqVicEdsZbF8RHg_MN0xkrsCMTRg"/>
          <p:cNvPicPr/>
          <p:nvPr/>
        </p:nvPicPr>
        <p:blipFill>
          <a:blip r:embed="rId3"/>
          <a:stretch/>
        </p:blipFill>
        <p:spPr>
          <a:xfrm>
            <a:off x="4788000" y="17733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Rectangle 4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33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211640" y="190512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Quite often propaganda is connected with negative emo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82960" indent="-282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uring the Great War the governments needed money for the war effort so they focused their efforts on posters aimed at raising money from citizens for the war effor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AutoShape 11"/>
          <p:cNvSpPr/>
          <p:nvPr/>
        </p:nvSpPr>
        <p:spPr>
          <a:xfrm>
            <a:off x="77760" y="-1257480"/>
            <a:ext cx="17431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0" name="Picture 13" descr="http://www.google.ca/url?source=imgres&amp;ct=img&amp;q=http://www.ww1westernfront.gov.au/notre-dame/images/awm-artv00468.jpg&amp;sa=X&amp;ei=HL1nTfi4GJG3twfg-ojoAw&amp;ved=0CAQQ8wc&amp;usg=AFQjCNH1W85C4FmIQqqyLWn6M4D7BeumJA"/>
          <p:cNvPicPr/>
          <p:nvPr/>
        </p:nvPicPr>
        <p:blipFill>
          <a:blip r:embed="rId3"/>
          <a:stretch/>
        </p:blipFill>
        <p:spPr>
          <a:xfrm>
            <a:off x="971640" y="1773360"/>
            <a:ext cx="273672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Rectangle 2" descr=""/>
          <p:cNvPicPr/>
          <p:nvPr/>
        </p:nvPicPr>
        <p:blipFill>
          <a:blip r:embed="rId2"/>
          <a:stretch/>
        </p:blipFill>
        <p:spPr>
          <a:xfrm>
            <a:off x="450720" y="28584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Seven Tricks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(link)</a:t>
            </a:r>
            <a:br>
              <a:rPr sz="3400"/>
            </a:br>
            <a:br>
              <a:rPr sz="3400"/>
            </a:br>
            <a:r>
              <a:rPr b="0" lang="en-US" sz="3400" spc="-1" strike="noStrike" u="sng">
                <a:solidFill>
                  <a:srgbClr val="ffffff"/>
                </a:solidFill>
                <a:uFillTx/>
                <a:latin typeface="Rockwel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Rockwell"/>
              </a:rPr>
              <a:t>Activity:  In small groups, examine the following posters and identify the ‘tricks’ used in the posters.  Each group will present their conclusions to the class.</a:t>
            </a:r>
            <a:endParaRPr b="0" lang="en-US" sz="3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pp_uk_02"/>
          <p:cNvPicPr/>
          <p:nvPr/>
        </p:nvPicPr>
        <p:blipFill>
          <a:blip r:embed="rId2"/>
          <a:stretch/>
        </p:blipFill>
        <p:spPr>
          <a:xfrm>
            <a:off x="2195640" y="189000"/>
            <a:ext cx="4608360" cy="65419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8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3" descr="pp_uk_01"/>
          <p:cNvPicPr/>
          <p:nvPr/>
        </p:nvPicPr>
        <p:blipFill>
          <a:blip r:embed="rId2"/>
          <a:stretch/>
        </p:blipFill>
        <p:spPr>
          <a:xfrm>
            <a:off x="2050920" y="115920"/>
            <a:ext cx="4465800" cy="65847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9" descr="pp_can_09"/>
          <p:cNvPicPr/>
          <p:nvPr/>
        </p:nvPicPr>
        <p:blipFill>
          <a:blip r:embed="rId2"/>
          <a:stretch/>
        </p:blipFill>
        <p:spPr>
          <a:xfrm>
            <a:off x="2340000" y="291960"/>
            <a:ext cx="4176720" cy="62326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5"/>
          <p:cNvSpPr/>
          <p:nvPr/>
        </p:nvSpPr>
        <p:spPr>
          <a:xfrm>
            <a:off x="611280" y="1268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ter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22:08:58Z</dcterms:created>
  <dc:creator>Rob Cotey</dc:creator>
  <dc:description/>
  <dc:language>en-US</dc:language>
  <cp:lastModifiedBy>Craig Rush</cp:lastModifiedBy>
  <dcterms:modified xsi:type="dcterms:W3CDTF">2011-11-14T00:07:32Z</dcterms:modified>
  <cp:revision>16</cp:revision>
  <dc:subject/>
  <dc:title>Propaganda in World War One</dc:title>
</cp:coreProperties>
</file>